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move the slide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Bold Condense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Explain time (each 5ms)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Pause: Error sign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Ask: What will happen?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Ask: How do fix?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QUESTIONS!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We will be doing it in Java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Emphasize that you learned so much doing it on your own</a:t>
            </a:r>
            <a:endParaRPr b="0" lang="en-US" sz="22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3657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6724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307520" indent="-427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747440" indent="-427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218736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2187360" indent="-427320">
              <a:spcBef>
                <a:spcPts val="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2187360" indent="-427320">
              <a:spcBef>
                <a:spcPts val="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www.lynda.com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25120" y="424188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Android Networking Developmen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25120" y="712476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An Introduction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3378240" y="1473120"/>
            <a:ext cx="543708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760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4a7594"/>
                </a:solidFill>
                <a:latin typeface="Helvetica Neue Light"/>
              </a:rPr>
              <a:t>The Basics: Understanding Activity Callbacks</a:t>
            </a:r>
            <a:endParaRPr b="0" lang="en-US" sz="70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46461"/>
                </a:solidFill>
                <a:latin typeface="Helvetica Neue"/>
              </a:rPr>
              <a:t>onCreate(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alled when the Activity is first “launched”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46461"/>
                </a:solidFill>
                <a:latin typeface="Helvetica Neue"/>
              </a:rPr>
              <a:t>onResume(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alled with onCreate() and when Activity is brought to foreground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46461"/>
                </a:solidFill>
                <a:latin typeface="Helvetica Neue"/>
              </a:rPr>
              <a:t>onPause(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alled when Activity leaves foreground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asics: Toast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 clean and simple way to provide feedback to the user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hen should you use them?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yntax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Courier New"/>
                <a:ea typeface="Courier New"/>
              </a:rPr>
              <a:t>Toast.makeText(“&lt;your_text&gt;”, Context, int);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7" name=""/>
          <p:cNvSpPr/>
          <p:nvPr/>
        </p:nvSpPr>
        <p:spPr>
          <a:xfrm>
            <a:off x="3543480" y="7899480"/>
            <a:ext cx="4546440" cy="1104840"/>
          </a:xfrm>
          <a:prstGeom prst="roundRect">
            <a:avLst>
              <a:gd name="adj" fmla="val 17241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is is a Toast!</a:t>
            </a:r>
            <a:endParaRPr b="0" lang="en-US" sz="3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ctivity: Our First Android Applica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Our simple application will cover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ctivity switching using Intent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ynamic and Static View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oast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tartActivityForResult(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59880" y="31716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y We Need Networked Application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28880" y="2654280"/>
            <a:ext cx="110613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rovides “limitless” extensibil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ke simple concepts come to lif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ocial experienc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cation servic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ase of acces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8369280" y="580392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8"/>
          <a:stretch/>
        </p:blipFill>
        <p:spPr>
          <a:xfrm>
            <a:off x="9442440" y="6883560"/>
            <a:ext cx="168264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6520" y="-380880"/>
            <a:ext cx="1215396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ome Networked Mobile Development Pitfall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41120" y="2565360"/>
            <a:ext cx="10922040" cy="713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termittent connectiv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tency hid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cation interpol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attery consumption (again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Networking simul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Race cases and synchroniz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xample later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9"/>
          <a:stretch/>
        </p:blipFill>
        <p:spPr>
          <a:xfrm>
            <a:off x="9029880" y="46990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ome Terms to Know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71680" y="2742840"/>
            <a:ext cx="11950560" cy="624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1"/>
                </a:solidFill>
                <a:latin typeface="Helvetica Neue"/>
              </a:rPr>
              <a:t>Before we begin coding, you should understand these terms: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46461"/>
                </a:solidFill>
                <a:latin typeface="Helvetica Neue"/>
              </a:rPr>
              <a:t>Transmission Control Protocol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46461"/>
                </a:solidFill>
                <a:latin typeface="Helvetica Neue"/>
              </a:rPr>
              <a:t>Socket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46461"/>
                </a:solidFill>
                <a:latin typeface="Helvetica Neue"/>
              </a:rPr>
              <a:t>Client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46461"/>
                </a:solidFill>
                <a:latin typeface="Helvetica Neue"/>
              </a:rPr>
              <a:t>Server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46461"/>
                </a:solidFill>
                <a:latin typeface="Helvetica Neue"/>
              </a:rPr>
              <a:t>NetworkOnMainThreadException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46461"/>
                </a:solidFill>
                <a:latin typeface="Helvetica Neue"/>
              </a:rPr>
              <a:t>Synchronization</a:t>
            </a:r>
            <a:endParaRPr b="0" lang="en-US" sz="3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7289640" y="7404120"/>
            <a:ext cx="494064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"/>
          <p:cNvSpPr/>
          <p:nvPr/>
        </p:nvSpPr>
        <p:spPr>
          <a:xfrm>
            <a:off x="7289640" y="5740560"/>
            <a:ext cx="4940640" cy="1371600"/>
          </a:xfrm>
          <a:prstGeom prst="roundRect">
            <a:avLst>
              <a:gd name="adj" fmla="val 13889"/>
            </a:avLst>
          </a:pr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c2d2c"/>
                </a:solidFill>
                <a:uFillTx/>
                <a:latin typeface="Helvetica Neue"/>
                <a:ea typeface="Helvetica Neue"/>
              </a:rPr>
              <a:t>Resolution #2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d2c"/>
                </a:solidFill>
                <a:latin typeface="Helvetica Neue"/>
                <a:ea typeface="Helvetica Neue"/>
              </a:rPr>
              <a:t>Data Updated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"/>
          <p:cNvSpPr/>
          <p:nvPr/>
        </p:nvSpPr>
        <p:spPr>
          <a:xfrm>
            <a:off x="1739880" y="574056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ffd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2222"/>
                </a:solidFill>
                <a:uFillTx/>
                <a:latin typeface="Helvetica Neue"/>
                <a:ea typeface="Helvetica Neue"/>
              </a:rPr>
              <a:t>Action #3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Helvetica Neue"/>
                <a:ea typeface="Helvetica Neue"/>
              </a:rPr>
              <a:t>Data.update(index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Helvetica Neue"/>
                <a:ea typeface="Helvetica Neue"/>
              </a:rPr>
              <a:t>(Takes 1 ms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"/>
          <p:cNvSpPr/>
          <p:nvPr/>
        </p:nvSpPr>
        <p:spPr>
          <a:xfrm>
            <a:off x="1739880" y="585468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"/>
          <p:cNvSpPr/>
          <p:nvPr/>
        </p:nvSpPr>
        <p:spPr>
          <a:xfrm>
            <a:off x="7289640" y="5765760"/>
            <a:ext cx="494064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"/>
          <p:cNvSpPr/>
          <p:nvPr/>
        </p:nvSpPr>
        <p:spPr>
          <a:xfrm>
            <a:off x="7264440" y="4140360"/>
            <a:ext cx="5003640" cy="1371600"/>
          </a:xfrm>
          <a:prstGeom prst="roundRect">
            <a:avLst>
              <a:gd name="adj" fmla="val 13889"/>
            </a:avLst>
          </a:prstGeom>
          <a:solidFill>
            <a:srgbClr val="1f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Helvetica Neue"/>
                <a:ea typeface="Helvetica Neue"/>
              </a:rPr>
              <a:t>Resolution #3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ta Returned to Use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5" name=""/>
          <p:cNvSpPr/>
          <p:nvPr/>
        </p:nvSpPr>
        <p:spPr>
          <a:xfrm>
            <a:off x="1752480" y="83808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1f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Helvetica Neue"/>
                <a:ea typeface="Helvetica Neue"/>
              </a:rPr>
              <a:t>Action #1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omeData.read(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(Takes 10 ms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"/>
          <p:cNvSpPr/>
          <p:nvPr/>
        </p:nvSpPr>
        <p:spPr>
          <a:xfrm>
            <a:off x="1752480" y="414036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1f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Helvetica Neue"/>
                <a:ea typeface="Helvetica Neue"/>
              </a:rPr>
              <a:t>Action #2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omeData.read(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(Takes 10 ms)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"/>
          <p:cNvSpPr/>
          <p:nvPr/>
        </p:nvSpPr>
        <p:spPr>
          <a:xfrm>
            <a:off x="7264440" y="7404120"/>
            <a:ext cx="5003640" cy="1371600"/>
          </a:xfrm>
          <a:prstGeom prst="roundRect">
            <a:avLst>
              <a:gd name="adj" fmla="val 13889"/>
            </a:avLst>
          </a:prstGeom>
          <a:solidFill>
            <a:srgbClr val="1f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Helvetica Neue"/>
                <a:ea typeface="Helvetica Neue"/>
              </a:rPr>
              <a:t>Resolution #3: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ta Returned to User Agai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352640" y="1243080"/>
            <a:ext cx="1041480" cy="1440"/>
          </a:xfrm>
          <a:prstGeom prst="line">
            <a:avLst/>
          </a:prstGeom>
          <a:ln w="50760">
            <a:solidFill>
              <a:srgbClr val="dc1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"/>
          <p:cNvSpPr/>
          <p:nvPr/>
        </p:nvSpPr>
        <p:spPr>
          <a:xfrm>
            <a:off x="7377840" y="1816200"/>
            <a:ext cx="1041480" cy="0"/>
          </a:xfrm>
          <a:prstGeom prst="line">
            <a:avLst/>
          </a:prstGeom>
          <a:ln w="50760">
            <a:solidFill>
              <a:srgbClr val="3fdc1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0" name=""/>
          <p:cNvSpPr/>
          <p:nvPr/>
        </p:nvSpPr>
        <p:spPr>
          <a:xfrm>
            <a:off x="8936640" y="1055160"/>
            <a:ext cx="309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"/>
                <a:ea typeface="Arial"/>
              </a:rPr>
              <a:t>Incoming Method Call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1" name=""/>
          <p:cNvSpPr/>
          <p:nvPr/>
        </p:nvSpPr>
        <p:spPr>
          <a:xfrm>
            <a:off x="8952120" y="1626480"/>
            <a:ext cx="235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"/>
                <a:ea typeface="Arial"/>
              </a:rPr>
              <a:t>Resulting Action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"/>
          <p:cNvSpPr/>
          <p:nvPr/>
        </p:nvSpPr>
        <p:spPr>
          <a:xfrm>
            <a:off x="1587600" y="736560"/>
            <a:ext cx="5283000" cy="8255160"/>
          </a:xfrm>
          <a:prstGeom prst="rect">
            <a:avLst/>
          </a:prstGeom>
          <a:noFill/>
          <a:ln w="50760">
            <a:solidFill>
              <a:srgbClr val="d9151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"/>
          <p:cNvSpPr/>
          <p:nvPr/>
        </p:nvSpPr>
        <p:spPr>
          <a:xfrm>
            <a:off x="7124760" y="2374920"/>
            <a:ext cx="5283000" cy="6616800"/>
          </a:xfrm>
          <a:prstGeom prst="rect">
            <a:avLst/>
          </a:prstGeom>
          <a:noFill/>
          <a:ln w="50760">
            <a:solidFill>
              <a:srgbClr val="16d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"/>
          <p:cNvSpPr/>
          <p:nvPr/>
        </p:nvSpPr>
        <p:spPr>
          <a:xfrm>
            <a:off x="398520" y="457956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244520" y="685440"/>
            <a:ext cx="0" cy="8621640"/>
          </a:xfrm>
          <a:prstGeom prst="line">
            <a:avLst/>
          </a:prstGeom>
          <a:ln w="50760">
            <a:solidFill>
              <a:srgbClr val="2e2e3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6" name=""/>
          <p:cNvSpPr/>
          <p:nvPr/>
        </p:nvSpPr>
        <p:spPr>
          <a:xfrm>
            <a:off x="1752480" y="255276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7" name=""/>
          <p:cNvSpPr/>
          <p:nvPr/>
        </p:nvSpPr>
        <p:spPr>
          <a:xfrm>
            <a:off x="7302600" y="255276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6540120" y="1941120"/>
            <a:ext cx="939960" cy="2490840"/>
          </a:xfrm>
          <a:prstGeom prst="line">
            <a:avLst/>
          </a:prstGeom>
          <a:ln w="50760">
            <a:solidFill>
              <a:srgbClr val="343434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6540120" y="5245200"/>
            <a:ext cx="927000" cy="2450880"/>
          </a:xfrm>
          <a:prstGeom prst="line">
            <a:avLst/>
          </a:prstGeom>
          <a:ln w="50760">
            <a:solidFill>
              <a:srgbClr val="343434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"/>
          <p:cNvSpPr/>
          <p:nvPr/>
        </p:nvSpPr>
        <p:spPr>
          <a:xfrm>
            <a:off x="1752480" y="740412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41120" y="360648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ynchronization: 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 Simple Exampl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2" name=""/>
          <p:cNvSpPr/>
          <p:nvPr/>
        </p:nvSpPr>
        <p:spPr>
          <a:xfrm>
            <a:off x="1739880" y="7404120"/>
            <a:ext cx="4940280" cy="1371600"/>
          </a:xfrm>
          <a:prstGeom prst="roundRect">
            <a:avLst>
              <a:gd name="adj" fmla="val 13889"/>
            </a:avLst>
          </a:prstGeom>
          <a:solidFill>
            <a:srgbClr val="8c9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5 m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3327480" y="17017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5384880" y="337824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96520" y="254160"/>
            <a:ext cx="10922040" cy="365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ctivity: Our First Networked Applica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1120" y="290808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hat are we going to do?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mplement a simple networked java applic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te a local server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te a clien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teract over the internet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elvetica Neue Light"/>
              </a:rPr>
              <a:t>Are there any questions before we begin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5988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at Are We Going to Discuss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781000"/>
            <a:ext cx="10922040" cy="619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me resources for you to pursu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me mobile development considerations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The basics of Android development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46461"/>
                </a:solidFill>
                <a:uFillTx/>
                <a:latin typeface="Helvetica Neue"/>
              </a:rPr>
              <a:t>Activity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Our first Android application!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Why we need networked applications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me networking development considerations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me terms to know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46461"/>
                </a:solidFill>
                <a:uFillTx/>
                <a:latin typeface="Helvetica Neue"/>
              </a:rPr>
              <a:t>Activity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Our first networked application!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41120" y="2857680"/>
            <a:ext cx="1092204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lynda.com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Unbelievably useful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E-learning license!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The Android SDK Samples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Located in </a:t>
            </a:r>
            <a:r>
              <a:rPr b="1" lang="en-US" sz="2300" spc="-1" strike="noStrike">
                <a:solidFill>
                  <a:srgbClr val="646461"/>
                </a:solidFill>
                <a:latin typeface="Helvetica Neue"/>
              </a:rPr>
              <a:t>/users/&lt;your-name&gt;/android-sdks/samples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stackoverflow.com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Android development documentation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Professional Android 4 Application Development by </a:t>
            </a:r>
            <a:r>
              <a:rPr b="1" lang="en-US" sz="2300" spc="-1" strike="noStrike">
                <a:solidFill>
                  <a:srgbClr val="646461"/>
                </a:solidFill>
                <a:latin typeface="Helvetica Neue"/>
              </a:rPr>
              <a:t>Reto Meier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Make your own?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207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461"/>
                </a:solidFill>
                <a:latin typeface="Helvetica Neue"/>
              </a:rPr>
              <a:t>Surprisingly helpful!</a:t>
            </a:r>
            <a:endParaRPr b="0" lang="en-US" sz="2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54576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velopment Resourc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3"/>
          <a:stretch/>
        </p:blipFill>
        <p:spPr>
          <a:xfrm>
            <a:off x="7683480" y="2857680"/>
            <a:ext cx="38480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More Development Resourc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ndroid Sensor Programming, by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Greg Milette 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nd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Adam Strou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ifi-Direct API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d-Hoc Networking on Android 4.0+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oogle Maps API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asy to leverag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9944280" y="3860640"/>
            <a:ext cx="203184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965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onsiderations for Applications in Android</a:t>
            </a:r>
            <a:r>
              <a:rPr b="0" lang="en-US" sz="7800" spc="-1" strike="noStrike">
                <a:solidFill>
                  <a:srgbClr val="4a7594"/>
                </a:solidFill>
                <a:latin typeface="Helvetica Neue Light"/>
                <a:ea typeface="ヒラギノ角ゴ ProN W3"/>
              </a:rPr>
              <a:t>	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41120" y="2870280"/>
            <a:ext cx="6591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creen size and dens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arget audienc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arget device API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obile use-cas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Battery consump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7"/>
          <a:stretch/>
        </p:blipFill>
        <p:spPr>
          <a:xfrm>
            <a:off x="7074000" y="3060720"/>
            <a:ext cx="4751280" cy="31622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8"/>
          <a:stretch/>
        </p:blipFill>
        <p:spPr>
          <a:xfrm>
            <a:off x="7974000" y="6591240"/>
            <a:ext cx="293544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109216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asics: Activiti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sed to encapsulate a “screen” in Androi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ransition between interfac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Various callbacks (discussed later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fferent typ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7976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is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7976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ab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79760" indent="-3841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ri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3200400" y="635040"/>
            <a:ext cx="6603840" cy="848664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asics: The Activity Lifecycl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868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asics: View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41120" y="2450880"/>
            <a:ext cx="1092204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Used to provide some visual feedback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Views can be coupled in ViewGroups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Different Types: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TextView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ImageView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GridView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163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6461"/>
                </a:solidFill>
                <a:latin typeface="Helvetica Neue"/>
              </a:rPr>
              <a:t>WebView</a:t>
            </a:r>
            <a:endParaRPr b="0" lang="en-US" sz="35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348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he Basics: Intent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Used for communication between: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ctivitie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pplication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You can package information into Intent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Retrieve later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yntax: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Courier New"/>
                <a:ea typeface="Courier New"/>
              </a:rPr>
              <a:t>Intent i = new Intent(Context, Class);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03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Courier New"/>
                <a:ea typeface="Courier New"/>
              </a:rPr>
              <a:t>startActivity/Service/Result(i);</a:t>
            </a:r>
            <a:endParaRPr b="0" lang="en-US" sz="28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